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FFCF-7854-4BE5-BF0E-6E558DC8E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F46A-A4D5-4AE3-9FA8-AFAE18C1C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OWERCLICK&gt;&lt;QUESTYPE&gt;QUIZ&lt;/QUESTYPE&gt;&lt;OPTION&gt;4&lt;/OPTION&gt;&lt;ANSWER&gt;3&lt;/ANSWER&gt;&lt;POINT&gt;10&lt;/POINT&gt;&lt;/POWERCLICK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A14D-DC87-45F1-A656-03A92D2AD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7F04-AA3B-48B7-8148-936528A61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22C2-BD83-4BA6-BF62-D41D5B88C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OWERCLICK&gt;&lt;QUESTYPE&gt;QUIZ&lt;/QUESTYPE&gt;&lt;OPTION&gt;5&lt;/OPTION&gt;&lt;ANSWER&gt;0&lt;/ANSWER&gt;&lt;POINT&gt;0&lt;/POINT&gt;&lt;/POWERCLICK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043B-7729-456A-B91B-20337BB5D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OWERCLICK&gt;&lt;QUESTYPE&gt;QUIZ&lt;/QUESTYPE&gt;&lt;OPTION&gt;5&lt;/OPTION&gt;&lt;ANSWER&gt;0&lt;/ANSWER&gt;&lt;POINT&gt;0&lt;/POINT&gt;&lt;/POWERCLICK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76ED-14BC-4EBE-BE1B-96C825AD4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04C3-986D-4B5F-9F32-8CB8484DA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B40E-4B95-48FE-B0D1-CD2D40482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4562-1C85-416C-8452-A1AE899BB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OWERCLICK&gt;&lt;QUESTYPE&gt;QUIZ&lt;/QUESTYPE&gt;&lt;OPTION&gt;4&lt;/OPTION&gt;&lt;ANSWER&gt;4&lt;/ANSWER&gt;&lt;POINT&gt;10&lt;/POINT&gt;&lt;/POWERCLICK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BD04-CCC8-4B44-9C6E-0B6B72EEC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OWERCLICK&gt;&lt;QUESTYPE&gt;QUIZ&lt;/QUESTYPE&gt;&lt;OPTION&gt;4&lt;/OPTION&gt;&lt;ANSWER&gt;4&lt;/ANSWER&gt;&lt;POINT&gt;10&lt;/POINT&gt;&lt;/POWERCLICK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A320-32E8-4977-A548-160BBB25A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31D8-B152-4FA4-8FA0-322BE0307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OWERCLICK&gt;&lt;QUESTYPE&gt;QUIZ&lt;/QUESTYPE&gt;&lt;OPTION&gt;4&lt;/OPTION&gt;&lt;ANSWER&gt;1&lt;/ANSWER&gt;&lt;POINT&gt;10&lt;/POINT&gt;&lt;/POWERCLICK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50920" y="4497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46796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250920" y="4497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46796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03336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81580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25092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03336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81580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46796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46796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250920" y="4497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46796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3336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1580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5092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3336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1580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03336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81580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25092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03336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81580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46796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250920" y="4497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46796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03336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81580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25092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03336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81580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46796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250920" y="4497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46796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03336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1580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25092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03336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1580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46796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250920" y="4497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46796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03336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81580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25092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03336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81580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46796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50920" y="4497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46796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3336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1580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5092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3336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1580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46796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50920" y="4497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46796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3336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580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5092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03336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81580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46796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250920" y="4497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46796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03336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81580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25092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03336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81580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46796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50920" y="4497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46796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03336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81580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25092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03336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581580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46796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50920" y="4497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46796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3336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81580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25092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03336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81580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6796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46796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50920" y="4497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46796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03336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81580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25092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03336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81580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3952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46796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50920" y="4497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467960" y="2133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25092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467960" y="4497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3336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815800" y="2133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25092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03336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815800" y="4497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4000" y="2635200"/>
            <a:ext cx="882036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99"/>
                </a:solidFill>
                <a:latin typeface="Verdana"/>
                <a:ea typeface="標楷體"/>
              </a:rPr>
              <a:t>歡迎您進入</a:t>
            </a:r>
            <a:r>
              <a:rPr b="1" lang="en-US" sz="4000" spc="-1" strike="noStrike">
                <a:solidFill>
                  <a:srgbClr val="333399"/>
                </a:solidFill>
                <a:latin typeface="Verdana"/>
                <a:ea typeface="Verdana"/>
              </a:rPr>
              <a:t>HiTeach IRS</a:t>
            </a:r>
            <a:br>
              <a:rPr sz="4000"/>
            </a:br>
            <a:r>
              <a:rPr b="1" lang="zh-TW" sz="4000" spc="-1" strike="noStrike">
                <a:solidFill>
                  <a:srgbClr val="333399"/>
                </a:solidFill>
                <a:latin typeface="Verdana"/>
                <a:ea typeface="標楷體"/>
              </a:rPr>
              <a:t>互動教學模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下列何種金字塔，較能說明歐洲大部分國家的人口結構？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0" name="群組 14"/>
          <p:cNvGrpSpPr/>
          <p:nvPr/>
        </p:nvGrpSpPr>
        <p:grpSpPr>
          <a:xfrm>
            <a:off x="1403280" y="1268280"/>
            <a:ext cx="6913800" cy="3533760"/>
            <a:chOff x="1403280" y="1268280"/>
            <a:chExt cx="6913800" cy="3533760"/>
          </a:xfrm>
        </p:grpSpPr>
        <p:pic>
          <p:nvPicPr>
            <p:cNvPr id="521" name="Picture 4" descr="Y16A5-5-26D"/>
            <p:cNvPicPr/>
            <p:nvPr/>
          </p:nvPicPr>
          <p:blipFill>
            <a:blip r:embed="rId1"/>
            <a:stretch/>
          </p:blipFill>
          <p:spPr>
            <a:xfrm>
              <a:off x="1411200" y="1268280"/>
              <a:ext cx="2331000" cy="15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Picture 6" descr="Y16A5-5-26B"/>
            <p:cNvPicPr/>
            <p:nvPr/>
          </p:nvPicPr>
          <p:blipFill>
            <a:blip r:embed="rId2"/>
            <a:stretch/>
          </p:blipFill>
          <p:spPr>
            <a:xfrm>
              <a:off x="1403280" y="3213000"/>
              <a:ext cx="2429640" cy="15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Picture 5" descr="Y16A5-5-26A"/>
            <p:cNvPicPr/>
            <p:nvPr/>
          </p:nvPicPr>
          <p:blipFill>
            <a:blip r:embed="rId3"/>
            <a:stretch/>
          </p:blipFill>
          <p:spPr>
            <a:xfrm>
              <a:off x="6078960" y="1268280"/>
              <a:ext cx="2133000" cy="15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7" descr="Y16A5-5-26C"/>
            <p:cNvPicPr/>
            <p:nvPr/>
          </p:nvPicPr>
          <p:blipFill>
            <a:blip r:embed="rId4"/>
            <a:stretch/>
          </p:blipFill>
          <p:spPr>
            <a:xfrm>
              <a:off x="6075000" y="3213000"/>
              <a:ext cx="2242080" cy="15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Text Box 8"/>
          <p:cNvSpPr/>
          <p:nvPr/>
        </p:nvSpPr>
        <p:spPr>
          <a:xfrm>
            <a:off x="324000" y="1773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4932360" y="1773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0"/>
          <p:cNvSpPr/>
          <p:nvPr/>
        </p:nvSpPr>
        <p:spPr>
          <a:xfrm>
            <a:off x="324000" y="3645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1"/>
          <p:cNvSpPr/>
          <p:nvPr/>
        </p:nvSpPr>
        <p:spPr>
          <a:xfrm>
            <a:off x="4932360" y="3716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800" y="2285640"/>
            <a:ext cx="896436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Verdana"/>
                <a:ea typeface="Verdana"/>
              </a:rPr>
              <a:t>Part III – </a:t>
            </a:r>
            <a:r>
              <a:rPr b="1" lang="zh-TW" sz="5400" spc="-1" strike="noStrike">
                <a:solidFill>
                  <a:srgbClr val="cc0000"/>
                </a:solidFill>
                <a:latin typeface="Verdana"/>
                <a:ea typeface="標楷體"/>
              </a:rPr>
              <a:t>問卷型題目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3"/>
          <p:cNvSpPr/>
          <p:nvPr/>
        </p:nvSpPr>
        <p:spPr>
          <a:xfrm>
            <a:off x="539640" y="1916280"/>
            <a:ext cx="813600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4800" spc="-1" strike="noStrike">
                <a:solidFill>
                  <a:srgbClr val="333399"/>
                </a:solidFill>
                <a:latin typeface="標楷體"/>
                <a:ea typeface="標楷體"/>
              </a:rPr>
              <a:t>為了解同學們對學校營養午餐的意見以做為改善依據，煩請依您的想法完成接下來的問卷調查，以利提昇午餐品質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2"/>
          <p:cNvSpPr/>
          <p:nvPr/>
        </p:nvSpPr>
        <p:spPr>
          <a:xfrm>
            <a:off x="755640" y="262080"/>
            <a:ext cx="6912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營養午餐問卷調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Arial"/>
                <a:ea typeface="標楷體"/>
              </a:rPr>
              <a:t>請問營養午餐的供應份量如何？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351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） 很滿意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） 滿意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） 尚可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） 不滿意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） 很不滿意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34" name="Picture 6" descr="20090617043849876"/>
          <p:cNvPicPr/>
          <p:nvPr/>
        </p:nvPicPr>
        <p:blipFill>
          <a:blip r:embed="rId1"/>
          <a:stretch/>
        </p:blipFill>
        <p:spPr>
          <a:xfrm>
            <a:off x="4284720" y="1413000"/>
            <a:ext cx="4392720" cy="41972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Arial"/>
                <a:ea typeface="標楷體"/>
              </a:rPr>
              <a:t>請問營養午餐裡菜的鹹、淡口味如何？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351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） 很滿意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） 滿意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） 尚可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） 不滿意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5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） 很不滿意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37" name="Picture 4" descr="iStock_000009278587XSmall-400x265"/>
          <p:cNvPicPr/>
          <p:nvPr/>
        </p:nvPicPr>
        <p:blipFill>
          <a:blip r:embed="rId1"/>
          <a:stretch/>
        </p:blipFill>
        <p:spPr>
          <a:xfrm>
            <a:off x="4140360" y="1341360"/>
            <a:ext cx="4464000" cy="2957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4000" y="1989000"/>
            <a:ext cx="882036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99"/>
                </a:solidFill>
                <a:latin typeface="標楷體"/>
                <a:ea typeface="標楷體"/>
              </a:rPr>
              <a:t>網奕國中 第一學期 第一次段考模擬測驗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900000" y="3068640"/>
            <a:ext cx="7453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以下將為您介紹三種題目類型，第一階段和第二階段的題目都有設定特定答案，以收集正確性的資料為目標；分別為敘述性題目和圖片式題目。第三階段的題目則無設定特定答案，以收集量化性的資料為目標，為問卷型題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250920" y="2502000"/>
            <a:ext cx="896436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Verdana"/>
                <a:ea typeface="Verdana"/>
              </a:rPr>
              <a:t>Part I - </a:t>
            </a:r>
            <a:r>
              <a:rPr b="1" lang="zh-TW" sz="5400" spc="-1" strike="noStrike">
                <a:solidFill>
                  <a:srgbClr val="cc0000"/>
                </a:solidFill>
                <a:latin typeface="Verdana"/>
                <a:ea typeface="標楷體"/>
              </a:rPr>
              <a:t>敘述性題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755280" y="260280"/>
            <a:ext cx="655308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第一學期 自然科模擬考試題目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468360" y="1844640"/>
            <a:ext cx="81360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新細明體"/>
              </a:rPr>
              <a:t>   </a:t>
            </a:r>
            <a:r>
              <a:rPr b="1" lang="zh-TW" sz="4800" spc="-1" strike="noStrike">
                <a:solidFill>
                  <a:srgbClr val="333399"/>
                </a:solidFill>
                <a:latin typeface="標楷體"/>
                <a:ea typeface="標楷體"/>
              </a:rPr>
              <a:t>請依照指示，詳細閱讀問題題目和答案選項描述後，按下遙控器上的按鍵，代表您所選擇的答案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351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  <a:ea typeface="Verdana"/>
              </a:rPr>
              <a:t>  </a:t>
            </a:r>
            <a:r>
              <a:rPr b="1" lang="zh-TW" sz="3200" spc="-1" strike="noStrike">
                <a:solidFill>
                  <a:srgbClr val="333399"/>
                </a:solidFill>
                <a:latin typeface="Verdana"/>
                <a:ea typeface="標楷體"/>
              </a:rPr>
              <a:t>在某電器的用電安全說明中，其中一項為：「同一插座勿連接過多的電器，以避免導致電線走火，引起火災。」導致電線走火的主要原因，應是下列哪一項科學原理？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Verdana"/>
                <a:ea typeface="標楷體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r>
              <a:rPr b="1" lang="zh-TW" sz="3200" spc="-1" strike="noStrike">
                <a:solidFill>
                  <a:srgbClr val="000000"/>
                </a:solidFill>
                <a:latin typeface="Verdana"/>
                <a:ea typeface="標楷體"/>
              </a:rPr>
              <a:t>） 電磁感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Verdana"/>
                <a:ea typeface="標楷體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r>
              <a:rPr b="1" lang="zh-TW" sz="3200" spc="-1" strike="noStrike">
                <a:solidFill>
                  <a:srgbClr val="000000"/>
                </a:solidFill>
                <a:latin typeface="Verdana"/>
                <a:ea typeface="標楷體"/>
              </a:rPr>
              <a:t>） 感應起電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Verdana"/>
                <a:ea typeface="標楷體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r>
              <a:rPr b="1" lang="zh-TW" sz="3200" spc="-1" strike="noStrike">
                <a:solidFill>
                  <a:srgbClr val="000000"/>
                </a:solidFill>
                <a:latin typeface="Verdana"/>
                <a:ea typeface="標楷體"/>
              </a:rPr>
              <a:t>） 電流的磁效應 （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r>
              <a:rPr b="1" lang="zh-TW" sz="3200" spc="-1" strike="noStrike">
                <a:solidFill>
                  <a:srgbClr val="000000"/>
                </a:solidFill>
                <a:latin typeface="Verdana"/>
                <a:ea typeface="標楷體"/>
              </a:rPr>
              <a:t>） 電流的熱效應</a:t>
            </a:r>
            <a:r>
              <a:rPr b="1" lang="zh-TW" sz="3200" spc="-1" strike="noStrike">
                <a:solidFill>
                  <a:srgbClr val="333399"/>
                </a:solidFill>
                <a:latin typeface="Verdana"/>
                <a:ea typeface="標楷體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09" name="Picture 5" descr="用電安全"/>
          <p:cNvPicPr/>
          <p:nvPr/>
        </p:nvPicPr>
        <p:blipFill>
          <a:blip r:embed="rId1"/>
          <a:stretch/>
        </p:blipFill>
        <p:spPr>
          <a:xfrm>
            <a:off x="6012000" y="4581360"/>
            <a:ext cx="2700360" cy="19544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3399"/>
                </a:solidFill>
                <a:latin typeface="標楷體"/>
                <a:ea typeface="標楷體"/>
              </a:rPr>
              <a:t>　</a:t>
            </a:r>
            <a:r>
              <a:rPr b="1" lang="zh-TW" sz="3200" spc="-1" strike="noStrike">
                <a:solidFill>
                  <a:srgbClr val="333399"/>
                </a:solidFill>
                <a:latin typeface="標楷體"/>
                <a:ea typeface="標楷體"/>
              </a:rPr>
              <a:t>目前海底擴張仍然持續進行，為何全球的海洋面積總和沒有明顯改變？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）海底有彈性可以伸縮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）較早形成的海洋地殼隱沉入地函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）陸地面積縮小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4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）海水量減少 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2" name="Picture 4" descr="sea"/>
          <p:cNvPicPr/>
          <p:nvPr/>
        </p:nvPicPr>
        <p:blipFill>
          <a:blip r:embed="rId1"/>
          <a:stretch/>
        </p:blipFill>
        <p:spPr>
          <a:xfrm>
            <a:off x="5580000" y="3573360"/>
            <a:ext cx="3095640" cy="2579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800" y="2285640"/>
            <a:ext cx="8964360" cy="122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Verdana"/>
                <a:ea typeface="Verdana"/>
              </a:rPr>
              <a:t>Part II – </a:t>
            </a:r>
            <a:r>
              <a:rPr b="1" lang="zh-TW" sz="5400" spc="-1" strike="noStrike">
                <a:solidFill>
                  <a:srgbClr val="cc0000"/>
                </a:solidFill>
                <a:latin typeface="Verdana"/>
                <a:ea typeface="標楷體"/>
              </a:rPr>
              <a:t>圖片式題目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755640" y="262080"/>
            <a:ext cx="6912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標楷體"/>
                <a:ea typeface="標楷體"/>
              </a:rPr>
              <a:t>第一學期 地理科模擬考試題目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539640" y="1916280"/>
            <a:ext cx="7848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新細明體"/>
              </a:rPr>
              <a:t>   </a:t>
            </a:r>
            <a:r>
              <a:rPr b="1" lang="zh-TW" sz="4800" spc="-1" strike="noStrike">
                <a:solidFill>
                  <a:srgbClr val="333399"/>
                </a:solidFill>
                <a:latin typeface="標楷體"/>
                <a:ea typeface="標楷體"/>
              </a:rPr>
              <a:t>請依照指示，詳細閱讀題目描述後，於該題圖片選項中選擇您要的答案，並按下遙控器上的按鍵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利用經緯度座標系統，描述臺灣島的「絕對位置」，是下列哪一答案？ 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4" descr="636146 [轉換]"/>
          <p:cNvPicPr/>
          <p:nvPr/>
        </p:nvPicPr>
        <p:blipFill>
          <a:blip r:embed="rId1"/>
          <a:srcRect l="0" t="3806" r="0" b="2537"/>
          <a:stretch/>
        </p:blipFill>
        <p:spPr>
          <a:xfrm>
            <a:off x="324000" y="1773360"/>
            <a:ext cx="8820000" cy="266364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5"/>
          <p:cNvSpPr/>
          <p:nvPr/>
        </p:nvSpPr>
        <p:spPr>
          <a:xfrm>
            <a:off x="755640" y="1341360"/>
            <a:ext cx="7740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）           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）         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）           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r>
              <a:rPr b="1" lang="zh-TW" sz="2800" spc="-1" strike="noStrike">
                <a:solidFill>
                  <a:srgbClr val="000000"/>
                </a:solidFill>
                <a:latin typeface="Verdana"/>
                <a:ea typeface="標楷體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06:41:14Z</dcterms:created>
  <dc:creator>網奕資訊HaBook</dc:creator>
  <dc:description/>
  <dc:language>en-US</dc:language>
  <cp:lastModifiedBy>steven</cp:lastModifiedBy>
  <dcterms:modified xsi:type="dcterms:W3CDTF">2011-12-21T00:45:30Z</dcterms:modified>
  <cp:revision>67</cp:revision>
  <dc:subject/>
  <dc:title>網奕資訊簡報</dc:title>
</cp:coreProperties>
</file>